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C9DBD-6F2C-4CFE-A257-7843EC2F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4B740-9F67-4151-A339-58536050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63E86-91FB-436C-8181-24DBC7B3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BD5A5-4953-45E7-B738-FBBF5CF3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69B8F-8016-4497-87A1-89D9C7D8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35FDC-4491-4432-ACA2-B2703215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2D6BF-E42B-4968-A3F5-A5BC3CDF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00D17-B20A-459C-B4A1-3ECC0F1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2D887-83EB-4A6A-AAB8-79F47280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DA364-839B-40A2-B680-5693D7D1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1A0C1-D397-4324-B80D-432C7587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1F309-9A9A-4C3E-901E-B781CAAE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0CB0-5D55-4219-A07D-23198505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269D5-3F51-4D0B-829E-98BBFA99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224A0-4DE6-4A18-8F61-2786CCCB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AE4F3-9785-4416-B4DE-A873EB2A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EF31C-DA70-4D53-B4B7-89C83F80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9A894-28EC-4A9D-8A23-5D2FDD01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E0020-574E-4B68-8C57-2C2FADB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8C872-3809-4BDA-8909-F3D4EFF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DC028-4362-44A9-B5BB-954337D3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5AB6D-5278-45EE-920E-2C3D0F31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4DA51-4E0E-405B-81B1-25463175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70A4-07C7-44F4-94FD-B032FAAB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7193A-4E6C-421F-AD90-6BB61AF6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3C647-B7A0-4B32-813A-9240BE69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28D62-3BAE-4DB2-8DBE-A1F937B6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D00F9-54FB-4FDB-ADC7-1D24614A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1B1CF-78D3-43A4-A25D-458B5B32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DB7F0-4A2E-4C4A-9B80-2D1E2AA8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E3EC5-21DF-415C-B54C-94A3B99E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A1F99-D89F-4E12-98BA-5782D573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90575-9660-46DC-BCD4-D0B1DB53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6D7A8-B236-44E7-875D-582D3A42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E49B5-9916-4639-BF3F-E6A948D4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29928-8ECB-42EB-86AD-277568D9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1F978-31A6-4041-A40B-40EEF5EE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B1198-82C6-456F-A35E-A36B1611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9C54B-A85C-431B-AD08-7A8ECC82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CB758-07FC-48C1-A052-D139A560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0E3E8-883E-4C5D-B4DE-A896DD99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98DF6-E647-465F-8152-DA056C6F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A0946-0959-461E-BC52-3DB293AE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B7D39-0EFD-4630-B106-C49C6083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91590-2560-444C-8573-EE9998B5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48CD1-698B-4265-B89F-8A856326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88FA3-6D84-467E-B757-61DDCD69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97423-D38F-4EBC-92E0-15B92D2C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5204D-7521-4403-8C0B-2FE2471B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81A45-E63B-4AA0-91E4-A1076C69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102B3-FCCE-4BD1-9578-BB7A682E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94F1C-F75D-4E77-B810-590D8420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CC801-14F2-4CE4-8635-28A1616D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4A193-F116-4F5F-88DC-4BB3A92E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83295-8258-4809-B924-3531D0C1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09364-3CE6-412B-9AEA-6AEB5D8D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ED087-23A5-43A8-AE8F-BE4745E2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4E526-C5B1-4297-BD49-93CAE3F2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18433-1EB0-4D8F-9537-6AA3FE1A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7506B-15EF-463B-8504-E6BB579E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E65B2-B7C1-4620-9F93-BA8E1A9A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DDD20-027C-4CC2-9BF7-BCDE9E89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413BF-7985-4089-95C0-B0EC6688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40C20-AB0A-419E-A9E4-4EA93130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CFBC0-3D65-4344-8FDA-71BB4CD2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2F696-E886-449F-94DC-0A4E9213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A5133-0DA5-4612-809D-1D04C458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77CEF-BA0D-4C57-B658-21FDE4D5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4C4BA-6C05-47C7-B759-4903F0A4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8EE89-CC26-44F8-A44F-615B8DFF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C1732-DAF8-4E73-B8FA-9E807BA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37614-5D33-4F13-ADD1-523DEAA1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4BFF4-A9FD-4D43-B7CF-090C7A04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7A4C5-C403-4557-8761-090178DE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54F7-D969-4E7C-889F-66EB25D5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9C0C3-4CAC-4393-870F-C16BA54E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F26BB-B9E3-4099-9360-FCD33E64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C400-7816-4DE7-8000-CF5FB6FB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06241-0549-4BFA-A7F6-7A2F2F5D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1A55-0B92-4F76-8B1E-885F616E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E61B-2F75-40D6-BBD1-95DB47E1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78FC-6776-4848-A692-7F40FD6F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7964D-849A-4DC8-BD01-E13B2DF1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B976-B5C8-44E7-AC9A-8852E3F9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98E87-A868-4D94-B01E-EAF06C95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4E32-2B73-420E-BFA3-8F8F5E1B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1362-EA94-4A76-870E-940291FE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980E6-2D61-4C12-B8AC-DF68B92A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F162F-A0D4-473D-97EE-EF1F6E63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09311-AA4F-4DF5-AA63-5DC863EE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156B8-3B67-423F-8B17-814C672F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BD0BF-1DBA-456D-BF5E-B987B2D8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A5B89-2FBA-47CC-9AB8-2DCC928F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3B5A1-39DB-407E-A92E-C8A7EF7F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145F8-09B9-4AA9-9C46-A9ED3F5A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59399-61E1-4CB3-AE15-3A1CA0D3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633E-2686-4D17-941D-5BAE2579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CE3BF-9DCA-4C6D-B25D-BB17D74A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5E994-738C-4A7C-AE37-9BEE0A57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837B4-7DBB-4AFD-8117-C60BA4CF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8F0BB-7FA7-4361-B3D0-484D54C0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40A1-C1D2-4A12-902B-76EAB7DF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C3360-F68E-43E5-9EEB-86DAACFF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FACFE-513B-4EF3-BAB4-B1C3B85B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29D72-2253-466F-A4B2-3F03E68A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3EEC2-9DA5-4B5F-843D-B8851AD0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41E49-BD94-4646-A562-2632A49E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F5587-67D6-4B4D-8712-F1FF3431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08CCB-569A-446B-AB1F-B4ED622B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7E21E-347F-48B7-9318-772CB3C0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40BE5-F22A-409B-9EC9-CC441211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F1FC9-6D76-428F-9EF0-60033A42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B2013-49C1-4172-948E-4E4BD84A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21D9B-A094-4C65-9DC7-11CC7893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74A0A-EB9B-4390-B85C-6C37D495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3C34F-C8E2-4756-A7A2-CCA3D07C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416AC-0194-4676-A808-02A49EF3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2D7BC-BC67-4D18-A269-D61C031A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83D36-9CF5-4195-A4DA-CD3FCCB0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0A045-266E-46F4-AB78-6D7F8F6B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9879E-EEAA-40E2-A535-7B28163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EED98-674C-4608-8CFE-C8E8ACCE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78B7B-BE95-40D1-AF69-34623886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BCF0-0D13-417E-B28A-E155DC6E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C7E4C-DEA7-40EA-8273-B4317877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7E65-B03B-4B9C-82F5-A98B91C5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C97A7-B1BD-4638-9ECE-9D4F36E3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A9E5C-1D00-459D-A84C-07FC0B75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49EA4-96EF-4CD1-A16C-892D7A2D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BA15B-B1DD-4FBB-80DA-D94443BB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AE9B8-B236-4ADB-A3C6-162C26AA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F9BB8-C713-4487-9AD8-D6BB7845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1F267-B0F3-410C-B72F-1D95C7DC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F3028-3AF6-46DC-8E80-6B05996D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143A-358E-452A-93B9-83557198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B62DE-F3F0-4200-AB01-9E1B03C6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84EDA-176F-4954-B584-4DE59339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3E8C2-5F33-4C58-B044-C6FA6450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07928-1E1D-44F2-A6EC-32CB5331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CC977-26B4-45D2-8A4D-19F43FBB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CF556-9CD9-4DCF-A986-FB515F0E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A0D50-8ECC-41A4-8D91-36D54AF9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85C38-7407-402E-9A5B-A1AD9279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5F4A5-C7B9-4DF6-88C5-6A8D25E8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96BD4-8EF4-4E34-AA27-1AEFD069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775C-8514-4740-875E-98EAE999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0C322-31F7-4F3D-B26E-F99EF768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06D8B-F9F0-4355-BFA7-B3203FA6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05153-1A10-41A7-A7CE-7327EAC4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A9869-2CEC-4E9A-8FF9-1C9D4DC9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ECE02-AE40-4C2E-8948-61041D18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EB518-274C-4B74-A83E-E5330D14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50BF4-4B86-4C8E-B276-7AE9EB6E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F348D-CFD0-46DD-BA99-4AB74CEA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28B60-1A57-440C-9ACE-702368A1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514BD-5B69-49EF-B0CE-1D85D8E8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0EAE-1AE5-4F93-ABFB-2A55CCCE2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12E6-DA11-41D1-9918-8D72C0563691}" type="slidenum"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2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D756-FF2D-495D-A459-3525B2591AB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2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3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5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6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C873-241C-4140-AF44-79CDF205AD9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3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AD5D-B129-421C-AFA6-0FF896769EF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D9E3-549B-43E2-99C9-18CF4C0B026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0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16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17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2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29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32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135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138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141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144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147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150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53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5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5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62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6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6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71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7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77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8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8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8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91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94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9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20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0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209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21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D1F5-8D7F-4640-B0ED-5A693926B9BC}" type="slidenum">
              <a:rPr b="0" lang="en-US" sz="14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9F92-3DE3-4739-98D0-FF8AE8F6219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5491-5BC4-4624-9684-70DD93C47D4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B459-07A8-4950-A50D-110188A0440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5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5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1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5A2C-A320-4278-AAC3-D6238B12A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3EA3-F652-4067-B3BF-68DE340AED9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2010600" y="245160"/>
            <a:ext cx="6896520" cy="5451840"/>
            <a:chOff x="2010600" y="245160"/>
            <a:chExt cx="6896520" cy="5451840"/>
          </a:xfrm>
        </p:grpSpPr>
        <p:grpSp>
          <p:nvGrpSpPr>
            <p:cNvPr id="660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661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6"/>
            <p:cNvGrpSpPr/>
            <p:nvPr/>
          </p:nvGrpSpPr>
          <p:grpSpPr>
            <a:xfrm>
              <a:off x="2010600" y="245160"/>
              <a:ext cx="6896520" cy="5451840"/>
              <a:chOff x="2010600" y="245160"/>
              <a:chExt cx="6896520" cy="5451840"/>
            </a:xfrm>
          </p:grpSpPr>
          <p:grpSp>
            <p:nvGrpSpPr>
              <p:cNvPr id="664" name="Group 7"/>
              <p:cNvGrpSpPr/>
              <p:nvPr/>
            </p:nvGrpSpPr>
            <p:grpSpPr>
              <a:xfrm>
                <a:off x="2010600" y="245160"/>
                <a:ext cx="6891480" cy="5451840"/>
                <a:chOff x="2010600" y="245160"/>
                <a:chExt cx="6891480" cy="5451840"/>
              </a:xfrm>
            </p:grpSpPr>
            <p:grpSp>
              <p:nvGrpSpPr>
                <p:cNvPr id="66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6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10"/>
                  <p:cNvSpPr/>
                  <p:nvPr/>
                </p:nvSpPr>
                <p:spPr>
                  <a:xfrm>
                    <a:off x="5109480" y="223488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" name="Group 11"/>
                <p:cNvGrpSpPr/>
                <p:nvPr/>
              </p:nvGrpSpPr>
              <p:grpSpPr>
                <a:xfrm>
                  <a:off x="2010600" y="245160"/>
                  <a:ext cx="6891480" cy="5451840"/>
                  <a:chOff x="2010600" y="245160"/>
                  <a:chExt cx="6891480" cy="5451840"/>
                </a:xfrm>
              </p:grpSpPr>
              <p:grpSp>
                <p:nvGrpSpPr>
                  <p:cNvPr id="669" name="Group 12"/>
                  <p:cNvGrpSpPr/>
                  <p:nvPr/>
                </p:nvGrpSpPr>
                <p:grpSpPr>
                  <a:xfrm>
                    <a:off x="5761080" y="2322000"/>
                    <a:ext cx="2559240" cy="2742480"/>
                    <a:chOff x="5761080" y="2322000"/>
                    <a:chExt cx="2559240" cy="2742480"/>
                  </a:xfrm>
                </p:grpSpPr>
                <p:sp>
                  <p:nvSpPr>
                    <p:cNvPr id="670" name="Freeform 13"/>
                    <p:cNvSpPr/>
                    <p:nvPr/>
                  </p:nvSpPr>
                  <p:spPr>
                    <a:xfrm rot="2711400">
                      <a:off x="5583600" y="3020040"/>
                      <a:ext cx="2129400" cy="386280"/>
                    </a:xfrm>
                    <a:custGeom>
                      <a:avLst/>
                      <a:gdLst>
                        <a:gd name="textAreaLeft" fmla="*/ 0 w 2129400"/>
                        <a:gd name="textAreaRight" fmla="*/ 2129760 w 212940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Freeform 14"/>
                    <p:cNvSpPr/>
                    <p:nvPr/>
                  </p:nvSpPr>
                  <p:spPr>
                    <a:xfrm rot="2711400">
                      <a:off x="7134840" y="4146120"/>
                      <a:ext cx="1139760" cy="60264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15"/>
                  <p:cNvGrpSpPr/>
                  <p:nvPr/>
                </p:nvGrpSpPr>
                <p:grpSpPr>
                  <a:xfrm>
                    <a:off x="5787720" y="2148480"/>
                    <a:ext cx="3040560" cy="2529360"/>
                    <a:chOff x="5787720" y="2148480"/>
                    <a:chExt cx="3040560" cy="2529360"/>
                  </a:xfrm>
                </p:grpSpPr>
                <p:sp>
                  <p:nvSpPr>
                    <p:cNvPr id="673" name="Freeform 16"/>
                    <p:cNvSpPr/>
                    <p:nvPr/>
                  </p:nvSpPr>
                  <p:spPr>
                    <a:xfrm rot="2103600">
                      <a:off x="5707080" y="2751840"/>
                      <a:ext cx="2235960" cy="425880"/>
                    </a:xfrm>
                    <a:custGeom>
                      <a:avLst/>
                      <a:gdLst>
                        <a:gd name="textAreaLeft" fmla="*/ 0 w 2235960"/>
                        <a:gd name="textAreaRight" fmla="*/ 2236320 w 223596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Freeform 17"/>
                    <p:cNvSpPr/>
                    <p:nvPr/>
                  </p:nvSpPr>
                  <p:spPr>
                    <a:xfrm rot="2103600">
                      <a:off x="7543080" y="3720960"/>
                      <a:ext cx="1200600" cy="67284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5" name="Group 18"/>
                  <p:cNvGrpSpPr/>
                  <p:nvPr/>
                </p:nvGrpSpPr>
                <p:grpSpPr>
                  <a:xfrm>
                    <a:off x="5775840" y="2066040"/>
                    <a:ext cx="3097080" cy="1991520"/>
                    <a:chOff x="5775840" y="2066040"/>
                    <a:chExt cx="3097080" cy="1991520"/>
                  </a:xfrm>
                </p:grpSpPr>
                <p:sp>
                  <p:nvSpPr>
                    <p:cNvPr id="676" name="Freeform 19"/>
                    <p:cNvSpPr/>
                    <p:nvPr/>
                  </p:nvSpPr>
                  <p:spPr>
                    <a:xfrm rot="1582800">
                      <a:off x="5747400" y="2521440"/>
                      <a:ext cx="2138760" cy="374400"/>
                    </a:xfrm>
                    <a:custGeom>
                      <a:avLst/>
                      <a:gdLst>
                        <a:gd name="textAreaLeft" fmla="*/ 0 w 2138760"/>
                        <a:gd name="textAreaRight" fmla="*/ 2139120 w 21387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20"/>
                    <p:cNvSpPr/>
                    <p:nvPr/>
                  </p:nvSpPr>
                  <p:spPr>
                    <a:xfrm rot="1582800">
                      <a:off x="7653600" y="3245760"/>
                      <a:ext cx="1148400" cy="586800"/>
                    </a:xfrm>
                    <a:custGeom>
                      <a:avLst/>
                      <a:gdLst>
                        <a:gd name="textAreaLeft" fmla="*/ 0 w 1148400"/>
                        <a:gd name="textAreaRight" fmla="*/ 1148760 w 114840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7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82" name="Freeform 25"/>
                    <p:cNvSpPr/>
                    <p:nvPr/>
                  </p:nvSpPr>
                  <p:spPr>
                    <a:xfrm rot="463200">
                      <a:off x="5823000" y="2005920"/>
                      <a:ext cx="1904040" cy="384480"/>
                    </a:xfrm>
                    <a:custGeom>
                      <a:avLst/>
                      <a:gdLst>
                        <a:gd name="textAreaLeft" fmla="*/ 0 w 1904040"/>
                        <a:gd name="textAreaRight" fmla="*/ 1904400 w 19040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85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88" name="Freeform 31"/>
                    <p:cNvSpPr/>
                    <p:nvPr/>
                  </p:nvSpPr>
                  <p:spPr>
                    <a:xfrm rot="20797200">
                      <a:off x="5798520" y="1652760"/>
                      <a:ext cx="1520280" cy="26604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691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Group 36"/>
                  <p:cNvGrpSpPr/>
                  <p:nvPr/>
                </p:nvGrpSpPr>
                <p:grpSpPr>
                  <a:xfrm>
                    <a:off x="2085480" y="2366640"/>
                    <a:ext cx="3040200" cy="2529720"/>
                    <a:chOff x="2085480" y="2366640"/>
                    <a:chExt cx="3040200" cy="2529720"/>
                  </a:xfrm>
                </p:grpSpPr>
                <p:sp>
                  <p:nvSpPr>
                    <p:cNvPr id="694" name="Freeform 37"/>
                    <p:cNvSpPr/>
                    <p:nvPr/>
                  </p:nvSpPr>
                  <p:spPr>
                    <a:xfrm flipH="1" rot="19496400">
                      <a:off x="2969280" y="2970000"/>
                      <a:ext cx="2235960" cy="428040"/>
                    </a:xfrm>
                    <a:custGeom>
                      <a:avLst/>
                      <a:gdLst>
                        <a:gd name="textAreaLeft" fmla="*/ -360 w 2235960"/>
                        <a:gd name="textAreaRight" fmla="*/ 2235960 w 2235960"/>
                        <a:gd name="textAreaTop" fmla="*/ 0 h 428040"/>
                        <a:gd name="textAreaBottom" fmla="*/ 428400 h 428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Freeform 38"/>
                    <p:cNvSpPr/>
                    <p:nvPr/>
                  </p:nvSpPr>
                  <p:spPr>
                    <a:xfrm flipH="1" rot="19496400">
                      <a:off x="2169360" y="3940200"/>
                      <a:ext cx="1201320" cy="672120"/>
                    </a:xfrm>
                    <a:custGeom>
                      <a:avLst/>
                      <a:gdLst>
                        <a:gd name="textAreaLeft" fmla="*/ -360 w 1201320"/>
                        <a:gd name="textAreaRight" fmla="*/ 1201320 w 120132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Group 39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697" name="Freeform 40"/>
                    <p:cNvSpPr/>
                    <p:nvPr/>
                  </p:nvSpPr>
                  <p:spPr>
                    <a:xfrm flipH="1" rot="20017200">
                      <a:off x="3024360" y="2739240"/>
                      <a:ext cx="2140920" cy="37584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840"/>
                        <a:gd name="textAreaBottom" fmla="*/ 376200 h 37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49120" cy="58680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Group 42"/>
                  <p:cNvGrpSpPr/>
                  <p:nvPr/>
                </p:nvGrpSpPr>
                <p:grpSpPr>
                  <a:xfrm>
                    <a:off x="2010600" y="2188440"/>
                    <a:ext cx="3134520" cy="1608120"/>
                    <a:chOff x="2010600" y="2188440"/>
                    <a:chExt cx="3134520" cy="1608120"/>
                  </a:xfrm>
                </p:grpSpPr>
                <p:sp>
                  <p:nvSpPr>
                    <p:cNvPr id="70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Freeform 44"/>
                    <p:cNvSpPr/>
                    <p:nvPr/>
                  </p:nvSpPr>
                  <p:spPr>
                    <a:xfrm flipH="1" rot="20520000">
                      <a:off x="2083680" y="2989440"/>
                      <a:ext cx="1110600" cy="65124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51240"/>
                        <a:gd name="textAreaBottom" fmla="*/ 651600 h 651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Group 183"/>
                  <p:cNvGrpSpPr/>
                  <p:nvPr/>
                </p:nvGrpSpPr>
                <p:grpSpPr>
                  <a:xfrm>
                    <a:off x="2166480" y="2097720"/>
                    <a:ext cx="2941200" cy="1002600"/>
                    <a:chOff x="2166480" y="2097720"/>
                    <a:chExt cx="2941200" cy="1002600"/>
                  </a:xfrm>
                </p:grpSpPr>
                <p:sp>
                  <p:nvSpPr>
                    <p:cNvPr id="703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92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3480" cy="60372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06" name="Freeform 49"/>
                    <p:cNvSpPr/>
                    <p:nvPr/>
                  </p:nvSpPr>
                  <p:spPr>
                    <a:xfrm flipH="1" rot="84600">
                      <a:off x="3327840" y="2071440"/>
                      <a:ext cx="1730880" cy="26784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7840"/>
                        <a:gd name="textAreaBottom" fmla="*/ 268200 h 267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Group 51"/>
                  <p:cNvGrpSpPr/>
                  <p:nvPr/>
                </p:nvGrpSpPr>
                <p:grpSpPr>
                  <a:xfrm>
                    <a:off x="2760480" y="1522440"/>
                    <a:ext cx="2364120" cy="787320"/>
                    <a:chOff x="2760480" y="1522440"/>
                    <a:chExt cx="2364120" cy="787320"/>
                  </a:xfrm>
                </p:grpSpPr>
                <p:sp>
                  <p:nvSpPr>
                    <p:cNvPr id="70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Group 54"/>
                  <p:cNvGrpSpPr/>
                  <p:nvPr/>
                </p:nvGrpSpPr>
                <p:grpSpPr>
                  <a:xfrm>
                    <a:off x="2887200" y="1236600"/>
                    <a:ext cx="2324520" cy="1083960"/>
                    <a:chOff x="2887200" y="1236600"/>
                    <a:chExt cx="2324520" cy="1083960"/>
                  </a:xfrm>
                </p:grpSpPr>
                <p:sp>
                  <p:nvSpPr>
                    <p:cNvPr id="712" name="Freeform 55"/>
                    <p:cNvSpPr/>
                    <p:nvPr/>
                  </p:nvSpPr>
                  <p:spPr>
                    <a:xfrm flipH="1" rot="1278000">
                      <a:off x="3692880" y="1787400"/>
                      <a:ext cx="1522080" cy="265680"/>
                    </a:xfrm>
                    <a:custGeom>
                      <a:avLst/>
                      <a:gdLst>
                        <a:gd name="textAreaLeft" fmla="*/ 360 w 1522080"/>
                        <a:gd name="textAreaRight" fmla="*/ 1522800 w 152208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7200" cy="416160"/>
                    </a:xfrm>
                    <a:custGeom>
                      <a:avLst/>
                      <a:gdLst>
                        <a:gd name="textAreaLeft" fmla="*/ 360 w 817200"/>
                        <a:gd name="textAreaRight" fmla="*/ 817920 w 81720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Group 57"/>
                  <p:cNvGrpSpPr/>
                  <p:nvPr/>
                </p:nvGrpSpPr>
                <p:grpSpPr>
                  <a:xfrm>
                    <a:off x="3161520" y="831240"/>
                    <a:ext cx="2169720" cy="1507680"/>
                    <a:chOff x="3161520" y="831240"/>
                    <a:chExt cx="2169720" cy="1507680"/>
                  </a:xfrm>
                </p:grpSpPr>
                <p:sp>
                  <p:nvSpPr>
                    <p:cNvPr id="715" name="Freeform 58"/>
                    <p:cNvSpPr/>
                    <p:nvPr/>
                  </p:nvSpPr>
                  <p:spPr>
                    <a:xfrm flipH="1" rot="2028600">
                      <a:off x="3864960" y="167292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71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Group 63"/>
                  <p:cNvGrpSpPr/>
                  <p:nvPr/>
                </p:nvGrpSpPr>
                <p:grpSpPr>
                  <a:xfrm>
                    <a:off x="4027680" y="335160"/>
                    <a:ext cx="1460160" cy="1886040"/>
                    <a:chOff x="4027680" y="335160"/>
                    <a:chExt cx="1460160" cy="1886040"/>
                  </a:xfrm>
                </p:grpSpPr>
                <p:sp>
                  <p:nvSpPr>
                    <p:cNvPr id="721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400" cy="264960"/>
                    </a:xfrm>
                    <a:custGeom>
                      <a:avLst/>
                      <a:gdLst>
                        <a:gd name="textAreaLeft" fmla="*/ -360 w 1355400"/>
                        <a:gd name="textAreaRight" fmla="*/ 1355400 w 13554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Freeform 65"/>
                    <p:cNvSpPr/>
                    <p:nvPr/>
                  </p:nvSpPr>
                  <p:spPr>
                    <a:xfrm flipH="1" rot="3474000">
                      <a:off x="4033800" y="545040"/>
                      <a:ext cx="726840" cy="416880"/>
                    </a:xfrm>
                    <a:custGeom>
                      <a:avLst/>
                      <a:gdLst>
                        <a:gd name="textAreaLeft" fmla="*/ -360 w 726840"/>
                        <a:gd name="textAreaRight" fmla="*/ 726840 w 72684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Group 66"/>
                  <p:cNvGrpSpPr/>
                  <p:nvPr/>
                </p:nvGrpSpPr>
                <p:grpSpPr>
                  <a:xfrm>
                    <a:off x="4448880" y="245160"/>
                    <a:ext cx="1122120" cy="1946520"/>
                    <a:chOff x="4448880" y="245160"/>
                    <a:chExt cx="1122120" cy="1946520"/>
                  </a:xfrm>
                </p:grpSpPr>
                <p:sp>
                  <p:nvSpPr>
                    <p:cNvPr id="724" name="Freeform 67"/>
                    <p:cNvSpPr/>
                    <p:nvPr/>
                  </p:nvSpPr>
                  <p:spPr>
                    <a:xfrm flipH="1" rot="4126800">
                      <a:off x="4556880" y="1401840"/>
                      <a:ext cx="1307520" cy="264600"/>
                    </a:xfrm>
                    <a:custGeom>
                      <a:avLst/>
                      <a:gdLst>
                        <a:gd name="textAreaLeft" fmla="*/ 360 w 1307520"/>
                        <a:gd name="textAreaRight" fmla="*/ 1308240 w 130752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Freeform 68"/>
                    <p:cNvSpPr/>
                    <p:nvPr/>
                  </p:nvSpPr>
                  <p:spPr>
                    <a:xfrm flipH="1" rot="4126800">
                      <a:off x="4418640" y="439200"/>
                      <a:ext cx="701640" cy="415800"/>
                    </a:xfrm>
                    <a:custGeom>
                      <a:avLst/>
                      <a:gdLst>
                        <a:gd name="textAreaLeft" fmla="*/ -360 w 701640"/>
                        <a:gd name="textAreaRight" fmla="*/ 701640 w 70164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Group 69"/>
                  <p:cNvGrpSpPr/>
                  <p:nvPr/>
                </p:nvGrpSpPr>
                <p:grpSpPr>
                  <a:xfrm>
                    <a:off x="5661720" y="952560"/>
                    <a:ext cx="2316960" cy="1111680"/>
                    <a:chOff x="5661720" y="952560"/>
                    <a:chExt cx="2316960" cy="1111680"/>
                  </a:xfrm>
                </p:grpSpPr>
                <p:sp>
                  <p:nvSpPr>
                    <p:cNvPr id="727" name="Freeform 70"/>
                    <p:cNvSpPr/>
                    <p:nvPr/>
                  </p:nvSpPr>
                  <p:spPr>
                    <a:xfrm rot="20274000">
                      <a:off x="5655600" y="1523160"/>
                      <a:ext cx="1518480" cy="264960"/>
                    </a:xfrm>
                    <a:custGeom>
                      <a:avLst/>
                      <a:gdLst>
                        <a:gd name="textAreaLeft" fmla="*/ 0 w 1518480"/>
                        <a:gd name="textAreaRight" fmla="*/ 1518840 w 1518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Freeform 71"/>
                    <p:cNvSpPr/>
                    <p:nvPr/>
                  </p:nvSpPr>
                  <p:spPr>
                    <a:xfrm rot="20274000">
                      <a:off x="7112160" y="1090800"/>
                      <a:ext cx="817560" cy="41904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Group 72"/>
                  <p:cNvGrpSpPr/>
                  <p:nvPr/>
                </p:nvGrpSpPr>
                <p:grpSpPr>
                  <a:xfrm>
                    <a:off x="5529600" y="626400"/>
                    <a:ext cx="2199240" cy="1450800"/>
                    <a:chOff x="5529600" y="626400"/>
                    <a:chExt cx="2199240" cy="1450800"/>
                  </a:xfrm>
                </p:grpSpPr>
                <p:sp>
                  <p:nvSpPr>
                    <p:cNvPr id="730" name="Freeform 73"/>
                    <p:cNvSpPr/>
                    <p:nvPr/>
                  </p:nvSpPr>
                  <p:spPr>
                    <a:xfrm rot="19678800">
                      <a:off x="5484240" y="1429560"/>
                      <a:ext cx="1518480" cy="264960"/>
                    </a:xfrm>
                    <a:custGeom>
                      <a:avLst/>
                      <a:gdLst>
                        <a:gd name="textAreaLeft" fmla="*/ 0 w 1518480"/>
                        <a:gd name="textAreaRight" fmla="*/ 1518840 w 1518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Freeform 74"/>
                    <p:cNvSpPr/>
                    <p:nvPr/>
                  </p:nvSpPr>
                  <p:spPr>
                    <a:xfrm rot="19678800">
                      <a:off x="6863400" y="811080"/>
                      <a:ext cx="816480" cy="4179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2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>
                      <a:gd name="textAreaLeft" fmla="*/ 360 w 1265040"/>
                      <a:gd name="textAreaRight" fmla="*/ 1265760 w 126504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" name="Group 77"/>
                  <p:cNvGrpSpPr/>
                  <p:nvPr/>
                </p:nvGrpSpPr>
                <p:grpSpPr>
                  <a:xfrm>
                    <a:off x="5355720" y="270360"/>
                    <a:ext cx="1196640" cy="1900800"/>
                    <a:chOff x="5355720" y="270360"/>
                    <a:chExt cx="1196640" cy="1900800"/>
                  </a:xfrm>
                </p:grpSpPr>
                <p:sp>
                  <p:nvSpPr>
                    <p:cNvPr id="735" name="Freeform 78"/>
                    <p:cNvSpPr/>
                    <p:nvPr/>
                  </p:nvSpPr>
                  <p:spPr>
                    <a:xfrm rot="17742000">
                      <a:off x="5086800" y="1417680"/>
                      <a:ext cx="1310400" cy="227520"/>
                    </a:xfrm>
                    <a:custGeom>
                      <a:avLst/>
                      <a:gdLst>
                        <a:gd name="textAreaLeft" fmla="*/ 0 w 1310400"/>
                        <a:gd name="textAreaRight" fmla="*/ 1310760 w 1310400"/>
                        <a:gd name="textAreaTop" fmla="*/ 0 h 227520"/>
                        <a:gd name="textAreaBottom" fmla="*/ 227880 h 2275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79"/>
                    <p:cNvSpPr/>
                    <p:nvPr/>
                  </p:nvSpPr>
                  <p:spPr>
                    <a:xfrm rot="17742000">
                      <a:off x="5888520" y="486360"/>
                      <a:ext cx="703080" cy="35496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Group 80"/>
                  <p:cNvGrpSpPr/>
                  <p:nvPr/>
                </p:nvGrpSpPr>
                <p:grpSpPr>
                  <a:xfrm>
                    <a:off x="5347080" y="388800"/>
                    <a:ext cx="1892520" cy="1796760"/>
                    <a:chOff x="5347080" y="388800"/>
                    <a:chExt cx="1892520" cy="1796760"/>
                  </a:xfrm>
                </p:grpSpPr>
                <p:sp>
                  <p:nvSpPr>
                    <p:cNvPr id="738" name="Freeform 81"/>
                    <p:cNvSpPr/>
                    <p:nvPr/>
                  </p:nvSpPr>
                  <p:spPr>
                    <a:xfrm rot="18822600">
                      <a:off x="5247000" y="1388160"/>
                      <a:ext cx="1425960" cy="33336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360"/>
                        <a:gd name="textAreaBottom" fmla="*/ 333720 h 333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Freeform 82"/>
                    <p:cNvSpPr/>
                    <p:nvPr/>
                  </p:nvSpPr>
                  <p:spPr>
                    <a:xfrm rot="18822600">
                      <a:off x="6402600" y="585000"/>
                      <a:ext cx="766440" cy="52236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Group 83"/>
                  <p:cNvGrpSpPr/>
                  <p:nvPr/>
                </p:nvGrpSpPr>
                <p:grpSpPr>
                  <a:xfrm>
                    <a:off x="5458320" y="292680"/>
                    <a:ext cx="426960" cy="1794960"/>
                    <a:chOff x="5458320" y="292680"/>
                    <a:chExt cx="426960" cy="1794960"/>
                  </a:xfrm>
                </p:grpSpPr>
                <p:sp>
                  <p:nvSpPr>
                    <p:cNvPr id="741" name="Freeform 222"/>
                    <p:cNvSpPr/>
                    <p:nvPr/>
                  </p:nvSpPr>
                  <p:spPr>
                    <a:xfrm rot="16696200">
                      <a:off x="5006880" y="144504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Freeform 223"/>
                    <p:cNvSpPr/>
                    <p:nvPr/>
                  </p:nvSpPr>
                  <p:spPr>
                    <a:xfrm rot="16696200">
                      <a:off x="5442480" y="533880"/>
                      <a:ext cx="631080" cy="16560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600"/>
                        <a:gd name="textAreaBottom" fmla="*/ 165960 h 165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Group 86"/>
                  <p:cNvGrpSpPr/>
                  <p:nvPr/>
                </p:nvGrpSpPr>
                <p:grpSpPr>
                  <a:xfrm>
                    <a:off x="3063240" y="2531160"/>
                    <a:ext cx="2195640" cy="3002760"/>
                    <a:chOff x="3063240" y="2531160"/>
                    <a:chExt cx="2195640" cy="3002760"/>
                  </a:xfrm>
                </p:grpSpPr>
                <p:sp>
                  <p:nvSpPr>
                    <p:cNvPr id="744" name="Freeform 87"/>
                    <p:cNvSpPr/>
                    <p:nvPr/>
                  </p:nvSpPr>
                  <p:spPr>
                    <a:xfrm flipH="1" rot="18336000">
                      <a:off x="3420360" y="3315960"/>
                      <a:ext cx="2127240" cy="38268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2680"/>
                        <a:gd name="textAreaBottom" fmla="*/ 383040 h 382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Freeform 88"/>
                    <p:cNvSpPr/>
                    <p:nvPr/>
                  </p:nvSpPr>
                  <p:spPr>
                    <a:xfrm flipH="1" rot="18336000">
                      <a:off x="3071160" y="4592160"/>
                      <a:ext cx="1138680" cy="605160"/>
                    </a:xfrm>
                    <a:custGeom>
                      <a:avLst/>
                      <a:gdLst>
                        <a:gd name="textAreaLeft" fmla="*/ -360 w 1138680"/>
                        <a:gd name="textAreaRight" fmla="*/ 1138680 w 1138680"/>
                        <a:gd name="textAreaTop" fmla="*/ 0 h 605160"/>
                        <a:gd name="textAreaBottom" fmla="*/ 605520 h 605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Group 89"/>
                  <p:cNvGrpSpPr/>
                  <p:nvPr/>
                </p:nvGrpSpPr>
                <p:grpSpPr>
                  <a:xfrm>
                    <a:off x="3791160" y="2650680"/>
                    <a:ext cx="1482480" cy="2999520"/>
                    <a:chOff x="3791160" y="2650680"/>
                    <a:chExt cx="1482480" cy="2999520"/>
                  </a:xfrm>
                </p:grpSpPr>
                <p:sp>
                  <p:nvSpPr>
                    <p:cNvPr id="747" name="Freeform 90"/>
                    <p:cNvSpPr/>
                    <p:nvPr/>
                  </p:nvSpPr>
                  <p:spPr>
                    <a:xfrm flipH="1" rot="17543400">
                      <a:off x="3737520" y="3441960"/>
                      <a:ext cx="1968120" cy="383040"/>
                    </a:xfrm>
                    <a:custGeom>
                      <a:avLst/>
                      <a:gdLst>
                        <a:gd name="textAreaLeft" fmla="*/ -360 w 1968120"/>
                        <a:gd name="textAreaRight" fmla="*/ 1968120 w 196812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Freeform 91"/>
                    <p:cNvSpPr/>
                    <p:nvPr/>
                  </p:nvSpPr>
                  <p:spPr>
                    <a:xfrm flipH="1" rot="17543400">
                      <a:off x="3742920" y="4744800"/>
                      <a:ext cx="1056240" cy="604080"/>
                    </a:xfrm>
                    <a:custGeom>
                      <a:avLst/>
                      <a:gdLst>
                        <a:gd name="textAreaLeft" fmla="*/ 360 w 1056240"/>
                        <a:gd name="textAreaRight" fmla="*/ 1056960 w 10562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Group 92"/>
                  <p:cNvGrpSpPr/>
                  <p:nvPr/>
                </p:nvGrpSpPr>
                <p:grpSpPr>
                  <a:xfrm>
                    <a:off x="4509000" y="2703240"/>
                    <a:ext cx="874440" cy="2927160"/>
                    <a:chOff x="4509000" y="2703240"/>
                    <a:chExt cx="874440" cy="2927160"/>
                  </a:xfrm>
                </p:grpSpPr>
                <p:sp>
                  <p:nvSpPr>
                    <p:cNvPr id="750" name="Freeform 93"/>
                    <p:cNvSpPr/>
                    <p:nvPr/>
                  </p:nvSpPr>
                  <p:spPr>
                    <a:xfrm flipH="1" rot="16870800">
                      <a:off x="4086360" y="3489480"/>
                      <a:ext cx="1887480" cy="346320"/>
                    </a:xfrm>
                    <a:custGeom>
                      <a:avLst/>
                      <a:gdLst>
                        <a:gd name="textAreaLeft" fmla="*/ -360 w 1887480"/>
                        <a:gd name="textAreaRight" fmla="*/ 1887480 w 188748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Freeform 94"/>
                    <p:cNvSpPr/>
                    <p:nvPr/>
                  </p:nvSpPr>
                  <p:spPr>
                    <a:xfrm flipH="1" rot="16870800">
                      <a:off x="4368240" y="4808880"/>
                      <a:ext cx="1011600" cy="544320"/>
                    </a:xfrm>
                    <a:custGeom>
                      <a:avLst/>
                      <a:gdLst>
                        <a:gd name="textAreaLeft" fmla="*/ 360 w 1011600"/>
                        <a:gd name="textAreaRight" fmla="*/ 1012320 w 101160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Group 95"/>
                  <p:cNvGrpSpPr/>
                  <p:nvPr/>
                </p:nvGrpSpPr>
                <p:grpSpPr>
                  <a:xfrm>
                    <a:off x="5677200" y="2483640"/>
                    <a:ext cx="2280960" cy="2953080"/>
                    <a:chOff x="5677200" y="2483640"/>
                    <a:chExt cx="2280960" cy="2953080"/>
                  </a:xfrm>
                </p:grpSpPr>
                <p:sp>
                  <p:nvSpPr>
                    <p:cNvPr id="753" name="Freeform 96"/>
                    <p:cNvSpPr/>
                    <p:nvPr/>
                  </p:nvSpPr>
                  <p:spPr>
                    <a:xfrm rot="3144000">
                      <a:off x="5414040" y="3251880"/>
                      <a:ext cx="2128320" cy="383040"/>
                    </a:xfrm>
                    <a:custGeom>
                      <a:avLst/>
                      <a:gdLst>
                        <a:gd name="textAreaLeft" fmla="*/ 0 w 2128320"/>
                        <a:gd name="textAreaRight" fmla="*/ 2128680 w 212832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Freeform 97"/>
                    <p:cNvSpPr/>
                    <p:nvPr/>
                  </p:nvSpPr>
                  <p:spPr>
                    <a:xfrm rot="3144000">
                      <a:off x="6801480" y="449892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98"/>
                  <p:cNvGrpSpPr/>
                  <p:nvPr/>
                </p:nvGrpSpPr>
                <p:grpSpPr>
                  <a:xfrm>
                    <a:off x="5648040" y="2593440"/>
                    <a:ext cx="1758240" cy="3032280"/>
                    <a:chOff x="5648040" y="2593440"/>
                    <a:chExt cx="1758240" cy="3032280"/>
                  </a:xfrm>
                </p:grpSpPr>
                <p:sp>
                  <p:nvSpPr>
                    <p:cNvPr id="756" name="Freeform 99"/>
                    <p:cNvSpPr/>
                    <p:nvPr/>
                  </p:nvSpPr>
                  <p:spPr>
                    <a:xfrm rot="3745200">
                      <a:off x="5265000" y="3396240"/>
                      <a:ext cx="2035440" cy="368640"/>
                    </a:xfrm>
                    <a:custGeom>
                      <a:avLst/>
                      <a:gdLst>
                        <a:gd name="textAreaLeft" fmla="*/ 0 w 2035440"/>
                        <a:gd name="textAreaRight" fmla="*/ 2035800 w 203544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Freeform 100"/>
                    <p:cNvSpPr/>
                    <p:nvPr/>
                  </p:nvSpPr>
                  <p:spPr>
                    <a:xfrm rot="3745200">
                      <a:off x="6353280" y="4720680"/>
                      <a:ext cx="1090440" cy="5763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6360"/>
                        <a:gd name="textAreaBottom" fmla="*/ 576720 h 576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Group 101"/>
                  <p:cNvGrpSpPr/>
                  <p:nvPr/>
                </p:nvGrpSpPr>
                <p:grpSpPr>
                  <a:xfrm>
                    <a:off x="5576040" y="2710800"/>
                    <a:ext cx="1225440" cy="2986200"/>
                    <a:chOff x="5576040" y="2710800"/>
                    <a:chExt cx="1225440" cy="2986200"/>
                  </a:xfrm>
                </p:grpSpPr>
                <p:sp>
                  <p:nvSpPr>
                    <p:cNvPr id="759" name="Freeform 102"/>
                    <p:cNvSpPr/>
                    <p:nvPr/>
                  </p:nvSpPr>
                  <p:spPr>
                    <a:xfrm rot="4286400">
                      <a:off x="5046840" y="3542400"/>
                      <a:ext cx="1972080" cy="30204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040"/>
                        <a:gd name="textAreaBottom" fmla="*/ 302400 h 302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103"/>
                    <p:cNvSpPr/>
                    <p:nvPr/>
                  </p:nvSpPr>
                  <p:spPr>
                    <a:xfrm rot="4286400">
                      <a:off x="5878080" y="4882320"/>
                      <a:ext cx="1059480" cy="47412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120"/>
                        <a:gd name="textAreaBottom" fmla="*/ 474480 h 474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Group 104"/>
                  <p:cNvGrpSpPr/>
                  <p:nvPr/>
                </p:nvGrpSpPr>
                <p:grpSpPr>
                  <a:xfrm>
                    <a:off x="5521320" y="2840400"/>
                    <a:ext cx="697320" cy="2777760"/>
                    <a:chOff x="5521320" y="2840400"/>
                    <a:chExt cx="697320" cy="2777760"/>
                  </a:xfrm>
                </p:grpSpPr>
                <p:sp>
                  <p:nvSpPr>
                    <p:cNvPr id="762" name="Freeform 105"/>
                    <p:cNvSpPr/>
                    <p:nvPr/>
                  </p:nvSpPr>
                  <p:spPr>
                    <a:xfrm rot="4898400">
                      <a:off x="4897440" y="3606480"/>
                      <a:ext cx="1812240" cy="304920"/>
                    </a:xfrm>
                    <a:custGeom>
                      <a:avLst/>
                      <a:gdLst>
                        <a:gd name="textAreaLeft" fmla="*/ 0 w 1812240"/>
                        <a:gd name="textAreaRight" fmla="*/ 1812600 w 1812240"/>
                        <a:gd name="textAreaTop" fmla="*/ 0 h 304920"/>
                        <a:gd name="textAreaBottom" fmla="*/ 305280 h 304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Freeform 106"/>
                    <p:cNvSpPr/>
                    <p:nvPr/>
                  </p:nvSpPr>
                  <p:spPr>
                    <a:xfrm rot="4898400">
                      <a:off x="5425920" y="4864320"/>
                      <a:ext cx="973080" cy="475560"/>
                    </a:xfrm>
                    <a:custGeom>
                      <a:avLst/>
                      <a:gdLst>
                        <a:gd name="textAreaLeft" fmla="*/ 0 w 973080"/>
                        <a:gd name="textAreaRight" fmla="*/ 973440 w 97308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Group 107"/>
                  <p:cNvGrpSpPr/>
                  <p:nvPr/>
                </p:nvGrpSpPr>
                <p:grpSpPr>
                  <a:xfrm>
                    <a:off x="4960800" y="2887560"/>
                    <a:ext cx="663840" cy="2717640"/>
                    <a:chOff x="4960800" y="2887560"/>
                    <a:chExt cx="663840" cy="2717640"/>
                  </a:xfrm>
                </p:grpSpPr>
                <p:sp>
                  <p:nvSpPr>
                    <p:cNvPr id="765" name="Freeform 108"/>
                    <p:cNvSpPr/>
                    <p:nvPr/>
                  </p:nvSpPr>
                  <p:spPr>
                    <a:xfrm rot="5755200">
                      <a:off x="4532400" y="3665160"/>
                      <a:ext cx="1771920" cy="23040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0400"/>
                        <a:gd name="textAreaBottom" fmla="*/ 230760 h 230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Freeform 109"/>
                    <p:cNvSpPr/>
                    <p:nvPr/>
                  </p:nvSpPr>
                  <p:spPr>
                    <a:xfrm rot="5755200">
                      <a:off x="4714200" y="4932720"/>
                      <a:ext cx="950760" cy="36180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1800"/>
                        <a:gd name="textAreaBottom" fmla="*/ 362160 h 361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7" name="Group 110"/>
              <p:cNvGrpSpPr/>
              <p:nvPr/>
            </p:nvGrpSpPr>
            <p:grpSpPr>
              <a:xfrm>
                <a:off x="2175120" y="682560"/>
                <a:ext cx="6732000" cy="4521240"/>
                <a:chOff x="2175120" y="682560"/>
                <a:chExt cx="6732000" cy="4521240"/>
              </a:xfrm>
            </p:grpSpPr>
            <p:grpSp>
              <p:nvGrpSpPr>
                <p:cNvPr id="768" name="Group 111"/>
                <p:cNvGrpSpPr/>
                <p:nvPr/>
              </p:nvGrpSpPr>
              <p:grpSpPr>
                <a:xfrm>
                  <a:off x="2175120" y="682560"/>
                  <a:ext cx="6732000" cy="4521240"/>
                  <a:chOff x="2175120" y="682560"/>
                  <a:chExt cx="6732000" cy="4521240"/>
                </a:xfrm>
              </p:grpSpPr>
              <p:sp>
                <p:nvSpPr>
                  <p:cNvPr id="769" name="Arc 112"/>
                  <p:cNvSpPr/>
                  <p:nvPr/>
                </p:nvSpPr>
                <p:spPr>
                  <a:xfrm flipV="1">
                    <a:off x="5740200" y="857880"/>
                    <a:ext cx="3166920" cy="2523960"/>
                  </a:xfrm>
                  <a:custGeom>
                    <a:avLst/>
                    <a:gdLst>
                      <a:gd name="textAreaLeft" fmla="*/ 0 w 3166920"/>
                      <a:gd name="textAreaRight" fmla="*/ 3167280 w 316692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Arc 113"/>
                  <p:cNvSpPr/>
                  <p:nvPr/>
                </p:nvSpPr>
                <p:spPr>
                  <a:xfrm flipH="1">
                    <a:off x="2562120" y="2270520"/>
                    <a:ext cx="2487600" cy="2933280"/>
                  </a:xfrm>
                  <a:custGeom>
                    <a:avLst/>
                    <a:gdLst>
                      <a:gd name="textAreaLeft" fmla="*/ 360 w 2487600"/>
                      <a:gd name="textAreaRight" fmla="*/ 2488320 w 24876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Arc 114"/>
                  <p:cNvSpPr/>
                  <p:nvPr/>
                </p:nvSpPr>
                <p:spPr>
                  <a:xfrm>
                    <a:off x="5817600" y="1752840"/>
                    <a:ext cx="1758960" cy="2934360"/>
                  </a:xfrm>
                  <a:custGeom>
                    <a:avLst/>
                    <a:gdLst>
                      <a:gd name="textAreaLeft" fmla="*/ 0 w 1758960"/>
                      <a:gd name="textAreaRight" fmla="*/ 1759320 w 17589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rc 115"/>
                  <p:cNvSpPr/>
                  <p:nvPr/>
                </p:nvSpPr>
                <p:spPr>
                  <a:xfrm flipH="1">
                    <a:off x="2174760" y="1297800"/>
                    <a:ext cx="3133080" cy="2934360"/>
                  </a:xfrm>
                  <a:custGeom>
                    <a:avLst/>
                    <a:gdLst>
                      <a:gd name="textAreaLeft" fmla="*/ -360 w 3133080"/>
                      <a:gd name="textAreaRight" fmla="*/ 3133080 w 31330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rc 116"/>
                  <p:cNvSpPr/>
                  <p:nvPr/>
                </p:nvSpPr>
                <p:spPr>
                  <a:xfrm flipH="1">
                    <a:off x="3058920" y="682560"/>
                    <a:ext cx="2281680" cy="2840760"/>
                  </a:xfrm>
                  <a:custGeom>
                    <a:avLst/>
                    <a:gdLst>
                      <a:gd name="textAreaLeft" fmla="*/ 360 w 2281680"/>
                      <a:gd name="textAreaRight" fmla="*/ 2282400 w 228168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rc 117"/>
                  <p:cNvSpPr/>
                  <p:nvPr/>
                </p:nvSpPr>
                <p:spPr>
                  <a:xfrm>
                    <a:off x="5492520" y="1875960"/>
                    <a:ext cx="939240" cy="2840760"/>
                  </a:xfrm>
                  <a:custGeom>
                    <a:avLst/>
                    <a:gdLst>
                      <a:gd name="textAreaLeft" fmla="*/ 0 w 939240"/>
                      <a:gd name="textAreaRight" fmla="*/ 939600 w 9392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Freeform 118"/>
                  <p:cNvSpPr/>
                  <p:nvPr/>
                </p:nvSpPr>
                <p:spPr>
                  <a:xfrm flipH="1">
                    <a:off x="430236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Freeform 119"/>
                <p:cNvSpPr/>
                <p:nvPr/>
              </p:nvSpPr>
              <p:spPr>
                <a:xfrm rot="20253000">
                  <a:off x="6126120" y="2181600"/>
                  <a:ext cx="547200" cy="1031760"/>
                </a:xfrm>
                <a:custGeom>
                  <a:avLst/>
                  <a:gdLst>
                    <a:gd name="textAreaLeft" fmla="*/ 0 w 547200"/>
                    <a:gd name="textAreaRight" fmla="*/ 547560 w 54720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7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778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131"/>
              <p:cNvSpPr/>
              <p:nvPr/>
            </p:nvSpPr>
            <p:spPr>
              <a:xfrm>
                <a:off x="7513920" y="3109320"/>
                <a:ext cx="1242000" cy="197316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160"/>
                  <a:gd name="textAreaBottom" fmla="*/ 1973520 h 19731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134"/>
              <p:cNvSpPr/>
              <p:nvPr/>
            </p:nvSpPr>
            <p:spPr>
              <a:xfrm flipH="1" rot="1347000">
                <a:off x="4183920" y="2156040"/>
                <a:ext cx="542880" cy="103212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7FA9-6FD0-438C-BACA-FB8A45A7A968}" type="slidenum">
              <a:rPr b="0" lang="en-US" sz="14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2"/>
          <p:cNvSpPr/>
          <p:nvPr/>
        </p:nvSpPr>
        <p:spPr>
          <a:xfrm>
            <a:off x="71424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mbria"/>
              </a:rPr>
              <a:t>ПСИХОГЕНИ БО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TextBox 2"/>
          <p:cNvSpPr/>
          <p:nvPr/>
        </p:nvSpPr>
        <p:spPr>
          <a:xfrm>
            <a:off x="1501560" y="685800"/>
            <a:ext cx="57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mbria"/>
              </a:rPr>
              <a:t>ФАКУЛТЕТ МЕДИЦИНСКИХ НА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mbria"/>
              </a:rPr>
              <a:t>УНИВЕРЗИТЕТ У КРАГУЈЕВ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6" name="Picture 13" descr="memo grb copy"/>
          <p:cNvPicPr/>
          <p:nvPr/>
        </p:nvPicPr>
        <p:blipFill>
          <a:blip r:embed="rId1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167" name="TextBox 4"/>
          <p:cNvSpPr/>
          <p:nvPr/>
        </p:nvSpPr>
        <p:spPr>
          <a:xfrm>
            <a:off x="1143000" y="4191120"/>
            <a:ext cx="74674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ОРОФАЦИЈАЛНИ БО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7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1447920" y="54100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Arial"/>
                <a:ea typeface="Times New Roman"/>
              </a:rPr>
              <a:t>Атипични фацијални бол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што чешће се јавља у пределу горње вилиц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ест облик је појава бола на зубу –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ипична одонталг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 јавља се у току сна већ је ограничен током будног ста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 јавља се јак, пробадајући бол и нема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игер тачака (за разлику од неуралгиј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ма поремећаја у инервациј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Arial"/>
                <a:ea typeface="Times New Roman"/>
              </a:rPr>
              <a:t>Атипични фацијални бол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намнестички се често добијају подаци о претходним траумама у пределу лица, хируршким интервенцијама у пределу вилица, носа или сину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же постојати и удружен са хроничним болом у другим деловима те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ође може бити удружен са психијатријским обољењ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Arial"/>
                <a:ea typeface="Times New Roman"/>
              </a:rPr>
              <a:t>Атипични фацијални бол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457200" y="1267920"/>
            <a:ext cx="850752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ароксизмална тригемиална неуралг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пароксизмалнос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тригер зо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бол у дистрибуционој зони периферног нер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типични фациј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ни бо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константа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емоционални поремећај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слаба локализац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  <a:ea typeface="Times New Roman"/>
              </a:rPr>
              <a:t>Атипични фацијални бол - патофизиологиј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6836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јасна, вероватно мултифакторијална етиолог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достатак серотонина и опиоида у ЦНС-у, слично депресивним стањ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штећење тригеминалног нерва (сличност са фантомским болом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мена васкуларног тонуса (норадренали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Атипични фацијални бол - дијагно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56840" y="1196640"/>
            <a:ext cx="8435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етаљна анамне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карактер б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трајање, интензитет, провоцирајућ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психичко стање пацијен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урофизиолошки прегле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испитивање функционалног статус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иферних неур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евоцирани потенција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типични фацијални бол - терапиј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468360" y="1268280"/>
            <a:ext cx="79912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Медикаментозна терап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а) Амитриптилин 10-100 мг/д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б) Кломипрамин   25-150 мг/д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в) Габапентин    1200-2400 мг/д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г) Карбамазепин 400-1200 мг/д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Picture 4" descr=""/>
          <p:cNvPicPr/>
          <p:nvPr/>
        </p:nvPicPr>
        <p:blipFill>
          <a:blip r:embed="rId1"/>
          <a:stretch/>
        </p:blipFill>
        <p:spPr>
          <a:xfrm>
            <a:off x="611280" y="4869000"/>
            <a:ext cx="3889440" cy="180000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5" descr=""/>
          <p:cNvPicPr/>
          <p:nvPr/>
        </p:nvPicPr>
        <p:blipFill>
          <a:blip r:embed="rId2"/>
          <a:stretch/>
        </p:blipFill>
        <p:spPr>
          <a:xfrm>
            <a:off x="5003640" y="4653000"/>
            <a:ext cx="36720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АТИПИЧНИ ФАЦИЈАЛНИ БОЛ –</a:t>
            </a:r>
            <a:r>
              <a:rPr b="0" lang="sr-C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ТЕРАПИЈА </a:t>
            </a:r>
            <a:br>
              <a:rPr sz="2800"/>
            </a:br>
            <a:r>
              <a:rPr b="0" lang="sr-CS" sz="2800" spc="-1" strike="noStrike">
                <a:solidFill>
                  <a:srgbClr val="000099"/>
                </a:solidFill>
                <a:latin typeface="Tahoma"/>
              </a:rPr>
              <a:t>т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анскутана електрична стимулација ТЕ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84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Улога ТЕНС-а  је у томе да електричним импулсима у болној регији активира рецепторе за дод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игнали из тих рецептора брже стижу до кичмене мождине, активирају инхибиторне интернеуроне, а они “коче” касније приспеле болне импулсе, односно затварају врата за бо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а смањеним дотоком болних импулса у мозак, снижава се и осећај бол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Picture 6" descr=""/>
          <p:cNvPicPr/>
          <p:nvPr/>
        </p:nvPicPr>
        <p:blipFill>
          <a:blip r:embed="rId1"/>
          <a:stretch/>
        </p:blipFill>
        <p:spPr>
          <a:xfrm>
            <a:off x="4356000" y="1981080"/>
            <a:ext cx="45370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Атипична одонталгија – синдром фантомског зуб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лни пулсирајући бол зуб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 и рентгенолошким прегледом зуб је потпуно здра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отребни захвати на зуб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  <a:ea typeface="Times New Roman"/>
              </a:rPr>
              <a:t>Атипична одонталгија - дијагно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24000" y="169992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намне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линички прегле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воцирани потенцијали пулпе ( потенцијали коре великог мозга који се изазивају стимулацијом сензитивних нерава пулп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константна струја 1 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импулс 1 м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фреквенца 2-5 /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индром горећих ус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нтраорални осећај печења и жарења или друга дизестезија за коју не постоји медицинско или дентални узрок а стање оралне слузокозе је нормал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вај синдром обухват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) осећај печења и жарења у усти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б) субјективни осећај сувоће у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) парестезиј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г) поремећај уку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иноними: глосодинија, орална дизестезија, стоматодинија, глосопиро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Title 1" descr=""/>
          <p:cNvPicPr/>
          <p:nvPr/>
        </p:nvPicPr>
        <p:blipFill>
          <a:blip r:embed="rId1"/>
          <a:stretch/>
        </p:blipFill>
        <p:spPr>
          <a:xfrm>
            <a:off x="895320" y="255600"/>
            <a:ext cx="7785000" cy="109224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ђународно друштво за  проучавање главобоља, критеријуми за дијагностику перзистентног идипатског орофацијалног бол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 у пределу лица, који перзистира  током читавог да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 је нејасно локализован, обично захвата једну  страну ли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 није удружен са губитком осећа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дијагностичким средствима не може се становити неко друго обољењ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  <a:ea typeface="Times New Roman"/>
              </a:rPr>
              <a:t>Синдром горећих уста етиолог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468360" y="170028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јчешће се јавља код жена у менопауз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окална обоље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орална кандидија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лихен плану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галваниза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) алерг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) ксеростом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ђ) пародонтити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) лингва географ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индром горећих уста етиолог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468360" y="184428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емећај укуса (дисгеузија) се јавља у 2/3 пацијената са овим синдром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ацијенти описују горак, метални укус у уст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емећај хомеостатских механизама између лингвалног нерва и хорде тимпан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индром горећих уста етиологиј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стемски фактор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психогени фактори: присутни у 50% пацијена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анксиозност, депресија, поремећај личност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) хормонални дисбаланс (90% жена са СГУ је 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нопауз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) недостатак гвожђ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) диабетес мелитус (периферна полинеуропатиј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) лекови (психотропни лекови, АЦЕ инхибитор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ђ) аутоимуне боле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индром горећих уста етиолог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360" y="1396800"/>
            <a:ext cx="892944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урогени фактори – системски фактори удружени са генерализованом периферном неуропатијо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) метаболички (дијабетес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) токсични (етанол, ретровирусна терапиј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) имуни (акутна инфламаторн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мијелинишућ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линеуропатиј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) инфективни (ХИВ инфекциј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) наследни фактор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ђ) поремећај у спровођењу сигнала и ЦНС-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индром горећих уста - симптоми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/3 пацијената почетак симптома повезује са стоматолошким третманом или неком боле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cGill упитник – пацијети описују бол као: пекући и жарећи (65-85%), благ (50%), досадан (50%), замарајући (30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геуз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арестезија, анестезија или дизестез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лодинија и хипералгез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ема промане на оралној мукози ( ни макро- ни микроскопских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индром горећих уста - симптом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јчешћа појава на језику, ређе образи, усне, дес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мптоми искључиво интраорал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ис бола  ‘пекући’, ‘жарећи’,‘благ’,‘досадан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епено настаје, обично прође 3 године до развоја симпто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же бити континуиран или непрекидан, јачи у току ноћ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лагог до умереног интензите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лакшање симптома током спавања, апликације хладно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воцирајући фактори – напетост, ум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воћа уста, поремећај укуса, промене понашањ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јективни налаз је уреда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18608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сихогени бол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457200" y="1980720"/>
            <a:ext cx="41148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Најчешћи психијатријски поремећаји удружени са хроничним бо</a:t>
            </a:r>
            <a:r>
              <a:rPr b="1" lang="sr-C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л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ним симптомима 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- Анксиозна 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- Депресивна 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4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321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4125960" cy="608040"/>
          </a:xfrm>
          <a:prstGeom prst="rect">
            <a:avLst/>
          </a:prstGeom>
          <a:solidFill>
            <a:srgbClr val="5b5d6b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Анксиозност</a:t>
            </a:r>
            <a:r>
              <a:rPr b="0" lang="en-US" sz="35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179280" y="1125000"/>
            <a:ext cx="5113440" cy="5543640"/>
          </a:xfrm>
          <a:prstGeom prst="rect">
            <a:avLst/>
          </a:prstGeom>
          <a:solidFill>
            <a:srgbClr val="5b5d6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Анксиозност је психолошко и физиолошко стање које карактеришу когнитивне, соматске  емоционалне и бихевиоралне компонен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не стварају непријатан осећај који је типично повезан са нелагодом, страхом или бриг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за разлику од страха анксиозност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ема јасно дефинисан узр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Чести симптоми су немир, хиперактивност, тахикардија, несаница, диспнеја, тремо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Доводи до смањења прага за бол, отежава тегобе код свих коморбидних обољења, утиче на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ацијентову сарадњ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7" name="Picture 5" descr=""/>
          <p:cNvPicPr/>
          <p:nvPr/>
        </p:nvPicPr>
        <p:blipFill>
          <a:blip r:embed="rId2"/>
          <a:stretch/>
        </p:blipFill>
        <p:spPr>
          <a:xfrm>
            <a:off x="7431120" y="4365720"/>
            <a:ext cx="17128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52560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cc"/>
                </a:solidFill>
                <a:latin typeface="Tahoma"/>
              </a:rPr>
              <a:t>ДЕПРЕСИЈА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468360" y="2987280"/>
            <a:ext cx="813600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епресија је психички поремећај који карактеришу генерална нерасположеност уз коју иде низак ниво самопоштовања и губитак интересовањ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0" name="Picture 4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3029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Депресија</a:t>
            </a:r>
            <a:r>
              <a:rPr b="0" lang="en-US" sz="35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Константан осећај туг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Смањено уживање у животу и смањен интерес за радње које су пацијенту биле важ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Смањење енергије и осећај ум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Промена апет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Поремећај с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Смањен капацитет за доношење одл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Поремећај концентр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Осећај безвред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Безнадежнос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рив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Суицидалне иде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1"/>
          <a:stretch/>
        </p:blipFill>
        <p:spPr>
          <a:xfrm>
            <a:off x="5867280" y="4581360"/>
            <a:ext cx="3132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e5e5ff"/>
                </a:solidFill>
                <a:latin typeface="Garamond"/>
                <a:ea typeface="Times New Roman"/>
              </a:rPr>
              <a:t>ВРСТА БОЛА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108000" y="1267920"/>
            <a:ext cx="885672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кутни бо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сврсисхода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упозоравајући сигна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траје колико и узр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ронични бо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није сврсисхода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невезан за узр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несразмера степена оштећења и интензитета б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316548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ЗАКЉУЧАК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Приступ пацијенту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Пацијент не ‘‘умишља’’, ’’уображава’’, ‘’оптерећен је ‘’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Тим стручњака (протетичар, хирург, психијатар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36" name="Picture 5" descr=""/>
          <p:cNvPicPr/>
          <p:nvPr/>
        </p:nvPicPr>
        <p:blipFill>
          <a:blip r:embed="rId1"/>
          <a:stretch/>
        </p:blipFill>
        <p:spPr>
          <a:xfrm>
            <a:off x="1332000" y="4105440"/>
            <a:ext cx="65530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1"/>
          <p:cNvSpPr/>
          <p:nvPr/>
        </p:nvSpPr>
        <p:spPr>
          <a:xfrm>
            <a:off x="60120" y="910800"/>
            <a:ext cx="8363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Питања за вежб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Kaракртеристике акутног бо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Kaрактеристике хроничног бо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Хронични бол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дијагн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Хронични болни синдроми - поде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Атипични (психогени) бо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лике између атипичног фацијалног бола и тригеминалне неуралг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Атипични фацијални бол - патофизиолог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Атипични фацијални бол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дијагноза и 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Атипична одонталгија (karakteristik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индром горећих ус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етиолог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индром горећих уста -  клиничка сл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Анксиозност – психолошке карактеристике  пације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Депресија – психолошке карактеристике пације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ступ пацијентима са психогеним болов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Хронични бол – дијагностички проблем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огато инервационо подручје орофацијалне регије (отежана локализациј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урне манифестације због дискретних функционалних поремећаја (мишићи, зглоб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жност орофацијалне регије за пацијент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себан преблем код хроничног бола је психолошки фактор који модификује доживљај б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Хронични бол - дијагноза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Анамнеза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Клинички преглед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Темељно познавање стања које су праћена појавом бол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7" name="Picture 5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33130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Arial"/>
                <a:ea typeface="Times New Roman"/>
              </a:rPr>
              <a:t>Хронични бол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457200" y="1196640"/>
            <a:ext cx="850752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раје континуирано дуже од 6 месец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е постоји биолошка основа за појаву 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тенциран је психолошким фактор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егобе су преувелича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Анксиозно-депресивна располож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Хронични бол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Times New Roman"/>
              </a:rPr>
              <a:t>Неурогени (неуралгије)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Times New Roman"/>
              </a:rPr>
              <a:t>Соматски (мишићно-фасцијални,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Times New Roman"/>
              </a:rPr>
              <a:t>бол зглоба)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Times New Roman"/>
              </a:rPr>
              <a:t>Атипични (психогени)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ffffff"/>
                </a:solidFill>
                <a:latin typeface="Arial"/>
                <a:ea typeface="Times New Roman"/>
              </a:rPr>
              <a:t>Канцерски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Times New Roman"/>
              </a:rPr>
              <a:t>(малигнитет)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Arial"/>
                <a:ea typeface="Times New Roman"/>
              </a:rPr>
              <a:t>Атипични (психогени) фацијални бол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468360" y="10522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диопатски бол у пределу лица, континуираног тока, који по својим карактеристикама не одговара неуралгијском или неком сличном синдром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ично је унилатералан, туп, пулсирајући или пекући, слабо локализова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постоје знаци других обољења (дијагностичка средства, рентген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суство обољења у структури у којој се бол осећ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је ограничен на инервационо подручје једне гране тригемину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Атипични (психогени) фацијални бо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-70% оболелих су жене у средњим годин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5%  свих хроничних болних синдро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сихички поремећаји (депресиј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верзивни симптом код психичких обољ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фична реакција на стре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21:59:36Z</dcterms:created>
  <dc:creator>DENIS</dc:creator>
  <dc:description/>
  <dc:language>en-US</dc:language>
  <cp:lastModifiedBy>Miki</cp:lastModifiedBy>
  <dcterms:modified xsi:type="dcterms:W3CDTF">2015-06-15T08:17:27Z</dcterms:modified>
  <cp:revision>38</cp:revision>
  <dc:subject/>
  <dc:title>Psihogeni bol</dc:title>
</cp:coreProperties>
</file>